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AB6-34B5-40B3-96F0-B9476F35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706-E05A-4A94-823C-2AA3909F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679-6D28-43D6-A92A-B6D8606B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B63-19D9-4E50-BE39-BDAE9836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2C3-BDD1-4C7B-B3C8-516CD272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5F4-0046-4428-A976-5130E016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F27-AA80-42FD-8C6C-13ADBC53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997-FD06-4469-85BF-9C21B1CA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F33-AEE4-454B-9F90-C8AE7505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B30-A4FE-4481-9A62-AB43716F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529-B3DE-45CA-890E-447858B4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F39-8954-44F2-953F-442DBF08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6-</a:t>
            </a:r>
            <a:fld id="{D7200EC0-9651-4863-A2BF-6FD179E6E757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kechers.com/default.jhtml;$sessionid$O3L4GAIAA4AS5LAWAQFCM4Q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skechers.com/default.jhtml;$sessionid$O3L4GAIAA4AS5LAWAQFCM4Q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sric-bi.com/VALS/presurvey.s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nd Life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19440" y="762120"/>
            <a:ext cx="3868920" cy="5133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: identifiable characteristics that defin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raits relevant to consumer behaviour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B55-F22A-4E6E-B787-8E531F21AF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re You an Innie or an Outie?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ner-directed vs. outer-direct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sense of self vs. pleasing others/fitting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wer of conformity and need for unique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062-89C2-4455-B159-460A70050D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re You an Innie or an Outie?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iocentrics vs. allocentric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aho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and enter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1FA-39F8-4856-90B6-A654E91988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blems with 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ediction of product choices using traits of consumers is mixed at bes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s not valid/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borrow scales used for the mentally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 test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instru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global measures to predict specific brand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gun approach” (no thought of scale 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member: traits are only part of the “story”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574-B69F-49AD-85BD-8005688C5A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t of traits people attribute to a product as if it wer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and equ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Outsourcing production to focus on bran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tensive consumer research goes into brand campaig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A4B-A033-4545-AE4C-CB62C783D4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.2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5257800"/>
                <a:gridCol w="2971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Brand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rait In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is repositioned several times or changes slogan repeated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lighty, schizophr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uses continuing character in advert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iar, comfor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charges high prices and uses exclusive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nobbish, sophistic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frequently available on d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heap, uncult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offers many line exten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ersatile, adap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884-EA9E-43D7-A01D-2AB3A60CC4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tinctive brand personality = brand loyal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brand = spokespersons and loved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anthropomorphized b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ing/repositioning strategies describing brands a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st, envy, jealousy. The dangers of Volv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F58-2E44-4DF2-B5E3-537A43DE7B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64824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atterns of consumption reflecting a person’s choices of how one spends time and mone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e are and what we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 perspectiv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F Magazine, 4 Wheel &amp; Off Road, Reader’s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3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6C6-769D-4B68-924D-2F4E13168E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 as Group Identit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rms of expressive symbol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definition of group members = common symbol syst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clude lifestyle, taste public, consumer group, symbolic community, statu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son provides a unique “twist” to be an “individu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stes/preferences evolve over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9DE-A227-4BA3-914D-1008B8F938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uilding Blocks of 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We often choose products that fit a lifesty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usage in desirable social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s of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brand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complementarity and consumption constellations (e.g., “yuppi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A1D-C402-4983-A268-B2EA36E7AF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person’s unique psychological makeup and how it consistently influences the way a person responds to his/her environ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vs. situation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: lifesty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isure activities, political outlook, aesthetic tast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664-4A8B-4D60-A492-A22B203CB6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What consumption constellation might characterize you and your friends toda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029200" cy="41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5B65-C910-4CD0-987F-3774F632EA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uilding Blocks of Lifestyles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nterior designers rely on consumption constellations when furnishing a roo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Decorating style integrates different products into a unified whole ‘look’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03848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F3B-C684-4703-9E23-0C0F84C884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se of psychological, sociological, and anthropological factors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arke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ir reasons for choosing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-tune offerings to meet needs of differen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s can share the same demographics and still be very different!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220-32D0-4F28-9B92-0CAA7BCBB8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est Buy Psychographic Segment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Jill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uzz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a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B4B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arr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09D-E0AE-4F6B-A8B1-7EEC60412F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oup Psychographic Segmen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urveyed waitress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sked about differences between chicken noodle and tomato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fer to Table 6.3, Personality of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15B-CAF1-483A-98FF-48544C2CF5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 Roo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veloped in 1960s and 1970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al research and survey research were flaw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mographics tell us “who” buys, but psychographics tell us “why” they bu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olson Export’s “Fred and the boys”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C61-83CB-435F-B168-77EAF7F281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oing a Psychographic Analysi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festyle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 as descripto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eral lifestyle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559-E7F0-49DD-AFED-6ABE92020D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IO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uping consumers according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20/80 Rule: lifestyle segments that produce the bulk of custom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y users and the benefits they derive from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29E-67E6-4DC1-9EDF-B6F40A2BAC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-4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Inter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Opin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Demograph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Themsel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bb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J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Poli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Occu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ntertai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cre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conom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4F9-BD6A-4A7E-BCCE-6D829EEFE2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Us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fine target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create new view of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position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better communicate product attribut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velop overall strate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market social/political issu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576-ED92-4D16-AE1B-325BAE937F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= conflict between gratification and responsi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: pleasure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ego: our con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: mediates between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BC8-2AF0-4C8B-BFC4-4CE49EFF04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3048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attery of question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consumers into distinct lifesty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s AIOs + perceptions of brands, celebrities, and media preference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51814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55D-96C5-47DF-8EB0-0B6BD4A2E9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6553080" cy="5791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5715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3808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79c8"/>
                </a:solidFill>
                <a:latin typeface="Arial"/>
              </a:rPr>
              <a:t>VALS2</a:t>
            </a:r>
            <a:r>
              <a:rPr b="1" lang="en-US" sz="2800" spc="-1" strike="noStrike" baseline="30000">
                <a:solidFill>
                  <a:srgbClr val="0479c8"/>
                </a:solidFill>
                <a:latin typeface="Arial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05760" y="5257800"/>
            <a:ext cx="3204720" cy="915480"/>
            <a:chOff x="5405760" y="5257800"/>
            <a:chExt cx="3204720" cy="915480"/>
          </a:xfrm>
        </p:grpSpPr>
        <p:pic>
          <p:nvPicPr>
            <p:cNvPr id="11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8280" y="5257800"/>
              <a:ext cx="95220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18" name=""/>
            <p:cNvSpPr/>
            <p:nvPr/>
          </p:nvSpPr>
          <p:spPr>
            <a:xfrm>
              <a:off x="5405760" y="5530680"/>
              <a:ext cx="225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ALS SURV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550-0364-4E8F-B19A-97C72A2AD7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Construct separate advertising executions for a cosmetics product targeted to the Belonger, Achiever, Experiencer, and Maker VALS type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the basic appeal differ for each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3A1-0867-4DFF-A064-136420CDFE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Global Psychographic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lobal MOSA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egments across 19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IS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s/sociocultural change in 40+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population into 10 segments using 3 ax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ation/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/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measured “trends” (e.g., “spiritualit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59A-A0C8-47A0-B300-B89BBE2A1A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Extreme sports. Day trading. Blogging. Vegetarianism. Can you predict what will be “hot” in the near future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y a lifestyle trend that is just surfacing in your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 this trend in detail and justify your pred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specific styles and/or products are part of this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1F8-4A22-4E20-B3A8-DA2C96A90A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odemograph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onsumer expenditures/socioeconomic factors + geographic inform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s of a feature flock toget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eached more economically (e.g., 90277 zip code in Redondo Beach, 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Geodemographic techniques assume that people who live in the same neighbourhood have other things in common as well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 do they make this assumption, and how accurate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2AE-C129-44B8-97A1-A7E4846795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end Forecasti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48440" cy="48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E66-7498-4412-A1F7-5DAF2A3E6B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ing Implic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scious motives underlying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sm in products to compromise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car as sexual gratification for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llic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66696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899-02A9-44A3-BBDF-B5F4CC2F88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reudian ideas unlock deeper product and advertisement meaning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depth interview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atent motives for purchas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chter’s motives (Table 6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ling, electric trains, power tool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cream, beauty product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2B4-3ABA-4E62-8AFD-FF12C74204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riticism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or works to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sexually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ppe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xpensive than large-scale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hook for promo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ly plausible findings (after the f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validity with other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D3B-3E0F-4A0D-9D8A-9B66393421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Karen Horn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t vs. detached vs. 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lfred Adl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to overcome infe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arry Stack Sulliv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 evolves to reduce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3D1-225B-4555-9C12-45350B341E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: Ju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rl Jung: analytical psycholo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uncons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etypes in advertising (see Figure 6.1: old wise man, earth mothe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Asse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etype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and Health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F32-19B9-4F0E-AC63-A1950852F9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randAsset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Archetypes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+ BAV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Brand Health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across cultures and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telegraph instant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trong evidence of achieving business objectives with this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rly warning” signal of brand troub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5CA-C9FE-439C-9E4A-59D3DCF89C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48:17Z</dcterms:modified>
  <cp:revision>1353</cp:revision>
  <dc:subject/>
  <dc:title>Consumers Rule</dc:title>
</cp:coreProperties>
</file>